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448DB-F1CB-4A20-A201-C2089BECD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43977-B247-4556-94B6-519F3E3E2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55B05-0442-4C73-A96E-7965BB3C8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F9D5A-5444-4019-BD20-DAEE7763E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9B432-F4C3-43B8-A93C-8676ED16A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3C3A3-C370-4811-A87A-9A4E6F004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E1C05-7412-4AE1-BE70-13A9B1504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474A7-5F46-45AF-922B-2850D8B73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7D5DE-38A1-43AD-845E-EB5E6BC45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2C680-1DF3-4922-9D16-CF2EFDCC6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0B9E9-965C-4ECF-B45D-91175546E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82B1C-0FB4-4DB2-A0F3-BFF434E70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FD545-CF6F-4613-BF02-7AA919B86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112D5-51B4-4F96-B3C0-7F72605B2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2DEA1-EDC8-4A9E-8D7F-FC30DAB33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1FB8A-93AF-4B08-81FF-B2619142D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12FE33-DBC2-40E1-8624-4BE0D4354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1E5F8-6466-460D-851D-407B57D9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8D46-F605-42A5-8AFA-F4C52700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A7EF1-5B8A-43F8-A217-2D432C987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0AF3E-30AB-44C3-BF99-595EA7522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93677-BB47-4C74-8708-09CBE82C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1221D-3A8D-40AB-865B-06B88EE9D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70C9-AA76-4165-BAAD-2E2FA6BA3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6992-0311-4EDE-91E2-E240D48C9653}"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012F-06B6-4A9D-B511-A0252CE4ED9A}"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480"/>
            <a:ext cx="91440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0" spc="-1" strike="noStrike">
                <a:solidFill>
                  <a:srgbClr val="ffcc66"/>
                </a:solidFill>
                <a:latin typeface="Times New Roman"/>
              </a:rPr>
              <a:t>Disposições Penais na Lei de Recuperação de Empresas e de Falência (Lei  nº 11.101/2005)</a:t>
            </a:r>
            <a:endParaRPr b="0" lang="en-US" sz="7000" spc="-1" strike="noStrike">
              <a:solidFill>
                <a:srgbClr val="ffcc66"/>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20" name="PlaceHolder 2"/>
          <p:cNvSpPr>
            <a:spLocks noGrp="1"/>
          </p:cNvSpPr>
          <p:nvPr>
            <p:ph type="subTitle"/>
          </p:nvPr>
        </p:nvSpPr>
        <p:spPr>
          <a:xfrm>
            <a:off x="228600" y="456840"/>
            <a:ext cx="8610480" cy="60958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cc66"/>
                </a:solidFill>
                <a:latin typeface="Arial"/>
                <a:ea typeface="Arial"/>
              </a:rPr>
              <a:t>Artigo 168    </a:t>
            </a:r>
            <a:r>
              <a:rPr b="0" lang="pt-BR" sz="2800" spc="-1" strike="noStrike">
                <a:solidFill>
                  <a:srgbClr val="07192b"/>
                </a:solidFill>
                <a:latin typeface="Arial"/>
                <a:ea typeface="Arial"/>
              </a:rPr>
              <a:t>   </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Estão previstos, nos artigos 168 e seguintes, da nova Lei de Falências, ou Lei de Recuperação de Empresas, como também é conhecida, que podem ser as fraudes, praticadas tanto pelo devedor, quanto por terceiros (contadores, técnicos, auditores, juiz, representante do Ministério Público, o administrador judicial, o gestor judicial, o perito, avaliador, escrivão, oficial de justiça, leiloeiro, entre outros),</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22" name="PlaceHolder 2"/>
          <p:cNvSpPr>
            <a:spLocks noGrp="1"/>
          </p:cNvSpPr>
          <p:nvPr>
            <p:ph type="subTitle"/>
          </p:nvPr>
        </p:nvSpPr>
        <p:spPr>
          <a:xfrm>
            <a:off x="228600" y="1371240"/>
            <a:ext cx="8610480" cy="51814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antes ou depois da sentença que decretar a falência, conceder a recuperação judicial ou homologar a recuperação extrajudicial (arts. 168 c/c Art. 177). Não caracterizando um crime personalíssimo, pois pode ser o agente qualquer pessoa, mesmo tendo este o conhecimento técnico, o que é assinalado, não é o conhecimento, mas sim o acesso, que pode ser feito por qualquer pessoa. </a:t>
            </a:r>
            <a:endParaRPr b="0" lang="en-US" sz="28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24" name="PlaceHolder 2"/>
          <p:cNvSpPr>
            <a:spLocks noGrp="1"/>
          </p:cNvSpPr>
          <p:nvPr>
            <p:ph type="subTitle"/>
          </p:nvPr>
        </p:nvSpPr>
        <p:spPr>
          <a:xfrm>
            <a:off x="228600" y="762120"/>
            <a:ext cx="8610480" cy="57909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ea typeface="Times New Roman"/>
              </a:rPr>
              <a:t>No caso dos novos crimes falimentares, o legislador previu a hipótese de pena em abstrato de 3 a 6 anos de reclusão no art. 168, podendo esta pena chegar a oito anos de reclusão, nos casos de aumento previstos nos §§ 1° e 2° do mesmo dispositivo, sendo que na lei anterior, o crime correspondente (ou idêntico) ao do art. 168,</a:t>
            </a:r>
            <a:r>
              <a:rPr b="0" lang="pt-BR"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26" name="PlaceHolder 2"/>
          <p:cNvSpPr>
            <a:spLocks noGrp="1"/>
          </p:cNvSpPr>
          <p:nvPr>
            <p:ph type="subTitle"/>
          </p:nvPr>
        </p:nvSpPr>
        <p:spPr>
          <a:xfrm>
            <a:off x="228600" y="1143000"/>
            <a:ext cx="8610480" cy="54100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Arial"/>
              </a:rPr>
              <a:t>previa pena máxima de 4 anos de reclusão para o devedor que com o fim de criar ou assegurar injusta vantagem para si ou para outrem, praticar, antes ou depois da falência, algum ato fraudulento de que resulte ou possa resultar prejuízo aos credores, conforme art. 187 do Decreto-lei n° 7.661/45, que fora revogado pela nova lei.</a:t>
            </a:r>
            <a:endParaRPr b="0" lang="en-US" sz="28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28" name="PlaceHolder 2"/>
          <p:cNvSpPr>
            <a:spLocks noGrp="1"/>
          </p:cNvSpPr>
          <p:nvPr>
            <p:ph type="subTitle"/>
          </p:nvPr>
        </p:nvSpPr>
        <p:spPr>
          <a:xfrm>
            <a:off x="228600" y="1523880"/>
            <a:ext cx="8610480" cy="5029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O Art. 168, da nova </a:t>
            </a:r>
            <a:r>
              <a:rPr b="0" i="1" lang="pt-BR" sz="2800" spc="-1" strike="noStrike">
                <a:solidFill>
                  <a:srgbClr val="ffffff"/>
                </a:solidFill>
                <a:latin typeface="Arial"/>
                <a:ea typeface="Arial"/>
              </a:rPr>
              <a:t>lex</a:t>
            </a:r>
            <a:r>
              <a:rPr b="0" lang="pt-BR" sz="2800" spc="-1" strike="noStrike">
                <a:solidFill>
                  <a:srgbClr val="ffffff"/>
                </a:solidFill>
                <a:latin typeface="Arial"/>
                <a:ea typeface="Arial"/>
              </a:rPr>
              <a:t>, praticamente repete a figura do crime de falência fraudulenta, tipificado na lei anterior no art. 187, entretanto com a pena exasperada, pois enquanto a lei anterior estabelecia uma pena de reclusão de 01(um) a 04 (quatro) anos, na nova lei, a sanção é de 3 (três) a 6 (seis) anos de reclusão e multa.</a:t>
            </a:r>
            <a:endParaRPr b="0" lang="en-US" sz="28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30" name="PlaceHolder 2"/>
          <p:cNvSpPr>
            <a:spLocks noGrp="1"/>
          </p:cNvSpPr>
          <p:nvPr>
            <p:ph type="subTitle"/>
          </p:nvPr>
        </p:nvSpPr>
        <p:spPr>
          <a:xfrm>
            <a:off x="228600" y="914040"/>
            <a:ext cx="8610480" cy="56386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700" spc="-1" strike="noStrike">
                <a:solidFill>
                  <a:srgbClr val="ffffff"/>
                </a:solidFill>
                <a:latin typeface="Arial"/>
                <a:ea typeface="Times New Roman"/>
              </a:rPr>
              <a:t>Falando em pena, importante mencionar que o legislador vem criando leis com penas exageradas, em relação as já existentes, sem fazer uma análise prévia dos demais crimes já previstos no Código Penal e Leis Extravagantes, criando para o operador do direito (especialmente os juízes), dificuldades na hora de decidir. Exemplo disso foi a criação da apropriação indébita previdenciária, acrescido no código penal, no art. 168. </a:t>
            </a:r>
            <a:endParaRPr b="0" lang="en-US" sz="27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32" name="PlaceHolder 2"/>
          <p:cNvSpPr>
            <a:spLocks noGrp="1"/>
          </p:cNvSpPr>
          <p:nvPr>
            <p:ph type="subTitle"/>
          </p:nvPr>
        </p:nvSpPr>
        <p:spPr>
          <a:xfrm>
            <a:off x="228600" y="837720"/>
            <a:ext cx="8610480" cy="5715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Times New Roman"/>
              </a:rPr>
              <a:t>A, cuja pena é de 2 (dois) a 5 (cinco) anos de reclusão, enquanto o delito de apropriação indébita, previsto no art. 168, a pena é de 1(um) a 4(quatro) anos de reclusão. Observe que ambos os delitos são crimes contra o patrimônio, só que o primeiro é contra o patrimônio da previdência, enquanto o segundo é contra o patrimônio particular. Será que o dinheiro do estado tem mais valor (importância) do que o dinheiro do particular? </a:t>
            </a:r>
            <a:endParaRPr b="0" lang="en-US" sz="28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34" name="PlaceHolder 2"/>
          <p:cNvSpPr>
            <a:spLocks noGrp="1"/>
          </p:cNvSpPr>
          <p:nvPr>
            <p:ph type="subTitle"/>
          </p:nvPr>
        </p:nvSpPr>
        <p:spPr>
          <a:xfrm>
            <a:off x="228600" y="914040"/>
            <a:ext cx="8610480" cy="56386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Arial"/>
              </a:rPr>
              <a:t>Se fosse tão importante assim, não deveria o Ministério da Fazenda estipular através de portaria, que valores até dez mil reais, não fossem executados, como ocorreu recentemente com a Portaria nº 49 de 01 de abril de 2004, do Ministro da Fazenda que autorizou a não inscrição como dívida ativa da União, os débitos com a Fazenda Nacional de valor até R$ 1.000,00 e também, o não ajuizamento das execuções fiscais de débitos de até 10.000,00 (dez mil reais).</a:t>
            </a:r>
            <a:endParaRPr b="0" lang="en-US" sz="28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36" name="PlaceHolder 2"/>
          <p:cNvSpPr>
            <a:spLocks noGrp="1"/>
          </p:cNvSpPr>
          <p:nvPr>
            <p:ph type="subTitle"/>
          </p:nvPr>
        </p:nvSpPr>
        <p:spPr>
          <a:xfrm>
            <a:off x="228600" y="380520"/>
            <a:ext cx="8610480" cy="6172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Arial"/>
              </a:rPr>
              <a:t>Diante disso, a doutrina e jurisprudência vêm entendendo que nos delitos previdenciários e tributários até esse montante, devem-se aplicar o princípio da insignificância, ou seja, não existe crime, conforme ensina o mestre LUIZ FLAVIO GOMES, "</a:t>
            </a:r>
            <a:r>
              <a:rPr b="0" i="1" lang="pt-BR" sz="2800" spc="-1" strike="noStrike">
                <a:solidFill>
                  <a:srgbClr val="ffffff"/>
                </a:solidFill>
                <a:latin typeface="Arial"/>
                <a:ea typeface="Arial"/>
              </a:rPr>
              <a:t>se esse ultimo valor não é relevante para fins fiscais, com muito maior razão não o será para fins penais. Débitos fiscais com a Fazenda Pública da União até R$ 10.000,00 (dez mil reais), em suma, devem ser considerados penalmente irrelevantes. Se nem sequer é o caso de execução fiscal, com maior razão não deve ter incidência o Direito penal</a:t>
            </a:r>
            <a:r>
              <a:rPr b="0" lang="pt-BR" sz="2800" spc="-1" strike="noStrike">
                <a:solidFill>
                  <a:srgbClr val="ffffff"/>
                </a:solidFill>
                <a:latin typeface="Arial"/>
                <a:ea typeface="Arial"/>
              </a:rPr>
              <a:t>”.</a:t>
            </a:r>
            <a:r>
              <a:rPr b="0" lang="pt-BR" sz="2800" spc="-1" strike="noStrike" baseline="30000">
                <a:solidFill>
                  <a:srgbClr val="ffffff"/>
                </a:solidFill>
                <a:latin typeface="Arial"/>
                <a:ea typeface="Arial"/>
              </a:rPr>
              <a:t>(1)</a:t>
            </a:r>
            <a:endParaRPr b="0" lang="en-US" sz="28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38" name="PlaceHolder 2"/>
          <p:cNvSpPr>
            <a:spLocks noGrp="1"/>
          </p:cNvSpPr>
          <p:nvPr>
            <p:ph type="subTitle"/>
          </p:nvPr>
        </p:nvSpPr>
        <p:spPr>
          <a:xfrm>
            <a:off x="228600" y="1676520"/>
            <a:ext cx="8610480" cy="48765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Times New Roman"/>
              </a:rPr>
              <a:t>Então se pode concluir que se alguém se apropriar de um valor de R$1.000,00 (um mil reais) de um particular, cometeu crime, enquanto àquele que se apropriar de um valor de R$ 10.000,00 (dez mil reais) da previdência, não cometeu crime. Injusto não? </a:t>
            </a:r>
            <a:endParaRPr b="0" lang="en-US" sz="28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cc66"/>
                </a:solidFill>
                <a:latin typeface="Times New Roman"/>
              </a:rPr>
              <a:t>INTRODUÇÃO</a:t>
            </a:r>
            <a:endParaRPr b="0" lang="en-US" sz="6000" spc="-1" strike="noStrike">
              <a:solidFill>
                <a:srgbClr val="ffcc66"/>
              </a:solidFill>
              <a:latin typeface="Times New Roman"/>
            </a:endParaRPr>
          </a:p>
        </p:txBody>
      </p:sp>
      <p:sp>
        <p:nvSpPr>
          <p:cNvPr id="104" name="PlaceHolder 2"/>
          <p:cNvSpPr>
            <a:spLocks noGrp="1"/>
          </p:cNvSpPr>
          <p:nvPr>
            <p:ph type="subTitle"/>
          </p:nvPr>
        </p:nvSpPr>
        <p:spPr>
          <a:xfrm>
            <a:off x="228600" y="2133360"/>
            <a:ext cx="8686800" cy="42670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ea typeface="Arial"/>
              </a:rPr>
              <a:t>A nova Lei de Falências foi sancionada pelo Senhor Presidente Luiz Inácio Lula da Silva e publicada no Diário Oficial da União, em 09.02.2005, cujos dispositivos já entraram em vigor, após 120 dias.</a:t>
            </a:r>
            <a:r>
              <a:rPr b="0" lang="pt-BR" sz="3200" spc="-1" strike="noStrike">
                <a:solidFill>
                  <a:srgbClr val="000000"/>
                </a:solidFill>
                <a:latin typeface="Arial"/>
                <a:ea typeface="Arial"/>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40" name="PlaceHolder 2"/>
          <p:cNvSpPr>
            <a:spLocks noGrp="1"/>
          </p:cNvSpPr>
          <p:nvPr>
            <p:ph type="subTitle"/>
          </p:nvPr>
        </p:nvSpPr>
        <p:spPr>
          <a:xfrm>
            <a:off x="228600" y="1676520"/>
            <a:ext cx="8610480" cy="48765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E o princípio da isonomia? Deveria o legislador, quando da criação dos tipos penais e da cominação de suas penas, fazer uma análise dos demais delitos penais, visando impedir que distorções como esta, venham a ocorrer.</a:t>
            </a:r>
            <a:endParaRPr b="0" lang="en-US" sz="2800" spc="-1" strike="noStrike">
              <a:solidFill>
                <a:srgbClr val="ffffff"/>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42" name="PlaceHolder 2"/>
          <p:cNvSpPr>
            <a:spLocks noGrp="1"/>
          </p:cNvSpPr>
          <p:nvPr>
            <p:ph type="subTitle"/>
          </p:nvPr>
        </p:nvSpPr>
        <p:spPr>
          <a:xfrm>
            <a:off x="228600" y="1066680"/>
            <a:ext cx="8610480" cy="54864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O delito de falência fraudulenta consiste em:</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i="1" lang="pt-BR" sz="2800" spc="-1" strike="noStrike">
                <a:solidFill>
                  <a:srgbClr val="ffffff"/>
                </a:solidFill>
                <a:latin typeface="Arial"/>
                <a:ea typeface="Arial"/>
              </a:rPr>
              <a:t>Art 168 </a:t>
            </a:r>
            <a:r>
              <a:rPr b="0" lang="pt-BR" sz="2800" spc="-1" strike="noStrike">
                <a:solidFill>
                  <a:srgbClr val="ffffff"/>
                </a:solidFill>
                <a:latin typeface="Arial"/>
                <a:ea typeface="Arial"/>
              </a:rPr>
              <a:t>"</a:t>
            </a:r>
            <a:r>
              <a:rPr b="0" i="1" lang="pt-BR" sz="2800" spc="-1" strike="noStrike">
                <a:solidFill>
                  <a:srgbClr val="ffffff"/>
                </a:solidFill>
                <a:latin typeface="Arial"/>
                <a:ea typeface="Arial"/>
              </a:rPr>
              <a:t>Praticar, antes ou depois da sentença que decretar a falência, conceder a recuperação judicial ou homologar a recuperação extrajudicial, ato fraudulento de que resulte ou possa resultar prejuízo aos credores, com o fim de obter ou assegurar vantagem indevida para si ou para outrem</a:t>
            </a:r>
            <a:r>
              <a:rPr b="0" lang="pt-BR"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44" name="PlaceHolder 2"/>
          <p:cNvSpPr>
            <a:spLocks noGrp="1"/>
          </p:cNvSpPr>
          <p:nvPr>
            <p:ph type="subTitle"/>
          </p:nvPr>
        </p:nvSpPr>
        <p:spPr>
          <a:xfrm>
            <a:off x="228600" y="1447560"/>
            <a:ext cx="8610480" cy="51051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Arial"/>
              </a:rPr>
              <a:t>Sujeito ativo deste delito é o empresário falido ou em recuperação judicial ou extrajudicial, tratando então de delito próprio, podendo ainda outras pessoas a responder, na medida de sua culpabilidade, pelo mesmo crime, conforme disciplina o § 3° do artigo em comento quando trata do concurso de pessoas:</a:t>
            </a:r>
            <a:endParaRPr b="0" lang="en-US" sz="28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46" name="PlaceHolder 2"/>
          <p:cNvSpPr>
            <a:spLocks noGrp="1"/>
          </p:cNvSpPr>
          <p:nvPr>
            <p:ph type="subTitle"/>
          </p:nvPr>
        </p:nvSpPr>
        <p:spPr>
          <a:xfrm>
            <a:off x="228600" y="1371240"/>
            <a:ext cx="8610480" cy="51814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000000"/>
                </a:solidFill>
                <a:latin typeface="Arial"/>
                <a:ea typeface="Arial"/>
              </a:rPr>
              <a:t>            </a:t>
            </a:r>
            <a:r>
              <a:rPr b="0" i="1" lang="pt-BR" sz="2800" spc="-1" strike="noStrike">
                <a:solidFill>
                  <a:srgbClr val="000000"/>
                </a:solidFill>
                <a:latin typeface="Arial"/>
                <a:ea typeface="Arial"/>
              </a:rPr>
              <a:t>  </a:t>
            </a:r>
            <a:r>
              <a:rPr b="0" i="1" lang="pt-BR" sz="2800" spc="-1" strike="noStrike">
                <a:solidFill>
                  <a:srgbClr val="ffffff"/>
                </a:solidFill>
                <a:latin typeface="Arial"/>
                <a:ea typeface="Arial"/>
              </a:rPr>
              <a:t>Art. 168 (...) §3º "Nas mesmas penas incidem os contadores, técnicos contábeis, auditores e outros profissionais que, de qualquer modo, concorrerem para as condutas criminosas descritas neste artigo, na medida de sua culpabilidade</a:t>
            </a:r>
            <a:r>
              <a:rPr b="0" lang="pt-BR"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48" name="PlaceHolder 2"/>
          <p:cNvSpPr>
            <a:spLocks noGrp="1"/>
          </p:cNvSpPr>
          <p:nvPr>
            <p:ph type="subTitle"/>
          </p:nvPr>
        </p:nvSpPr>
        <p:spPr>
          <a:xfrm>
            <a:off x="228600" y="1523880"/>
            <a:ext cx="8610480" cy="5029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No caso das sociedades, os sócios, diretores, gerentes, administradores e conselheiros, de fato ou de direito, bem como o administrador judicial; também poderão responder pelo delito do Art. 168, por força do teor do art. 179 da mesma lei.</a:t>
            </a:r>
            <a:endParaRPr b="0" lang="en-US" sz="2800" spc="-1" strike="noStrike">
              <a:solidFill>
                <a:srgbClr val="ffffff"/>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50" name="PlaceHolder 2"/>
          <p:cNvSpPr>
            <a:spLocks noGrp="1"/>
          </p:cNvSpPr>
          <p:nvPr>
            <p:ph type="subTitle"/>
          </p:nvPr>
        </p:nvSpPr>
        <p:spPr>
          <a:xfrm>
            <a:off x="228600" y="1828440"/>
            <a:ext cx="8610480" cy="4724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000000"/>
                </a:solidFill>
                <a:latin typeface="Arial"/>
                <a:ea typeface="Arial"/>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O elemento subjetivo do crime é o dolo, havendo ainda o elemento subjetivo específico (“com o fim de"), não existindo então a figura do delito culposo para esse crime.</a:t>
            </a:r>
            <a:endParaRPr b="0" lang="en-US" sz="28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52" name="PlaceHolder 2"/>
          <p:cNvSpPr>
            <a:spLocks noGrp="1"/>
          </p:cNvSpPr>
          <p:nvPr>
            <p:ph type="subTitle"/>
          </p:nvPr>
        </p:nvSpPr>
        <p:spPr>
          <a:xfrm>
            <a:off x="228600" y="1676520"/>
            <a:ext cx="8610480" cy="5867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A conduta é comissiva e consiste na prática de ato fraudulento de que resulte ou possa resultar prejuízo aos credores, antes ou depois da sentença que decretar a falência, conceder a recuperação judicial ou homologar a recuperação extrajudicial.</a:t>
            </a:r>
            <a:endParaRPr b="0" lang="en-US" sz="28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54" name="PlaceHolder 2"/>
          <p:cNvSpPr>
            <a:spLocks noGrp="1"/>
          </p:cNvSpPr>
          <p:nvPr>
            <p:ph type="subTitle"/>
          </p:nvPr>
        </p:nvSpPr>
        <p:spPr>
          <a:xfrm>
            <a:off x="228600" y="1828440"/>
            <a:ext cx="8610480" cy="4724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000000"/>
                </a:solidFill>
                <a:latin typeface="Arial"/>
                <a:ea typeface="Arial"/>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Se não houver a decretação da falência ou a concessão da recuperação judicial ou extrajudicial, a fraude poderá caracterizar qualquer dos delitos de estelionato previsto no art. 171 do CP.</a:t>
            </a:r>
            <a:endParaRPr b="0" lang="en-US" sz="28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56" name="PlaceHolder 2"/>
          <p:cNvSpPr>
            <a:spLocks noGrp="1"/>
          </p:cNvSpPr>
          <p:nvPr>
            <p:ph type="subTitle"/>
          </p:nvPr>
        </p:nvSpPr>
        <p:spPr>
          <a:xfrm>
            <a:off x="228600" y="1600200"/>
            <a:ext cx="8610480" cy="49528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Arial"/>
              </a:rPr>
              <a:t>O legislador trouxe ainda a previsão de causa de aumento de pena em duas hipóteses nos casos de fraude, senão vejamo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lang="pt-BR" sz="2800" spc="-1" strike="noStrike">
                <a:solidFill>
                  <a:srgbClr val="ffffff"/>
                </a:solidFill>
                <a:latin typeface="Arial"/>
                <a:ea typeface="Arial"/>
              </a:rPr>
              <a:t>a) No parágrafo § 1º do Art. 168, estabeleceu um aumento de 1/6 (um sexto) a 1/3 (um terço), se o agente:</a:t>
            </a:r>
            <a:endParaRPr b="0" lang="en-US" sz="28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58" name="PlaceHolder 2"/>
          <p:cNvSpPr>
            <a:spLocks noGrp="1"/>
          </p:cNvSpPr>
          <p:nvPr>
            <p:ph type="subTitle"/>
          </p:nvPr>
        </p:nvSpPr>
        <p:spPr>
          <a:xfrm>
            <a:off x="228600" y="228240"/>
            <a:ext cx="8610480" cy="624852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i="1" lang="pt-BR" sz="2800" spc="-1" strike="noStrike">
                <a:solidFill>
                  <a:srgbClr val="ffffff"/>
                </a:solidFill>
                <a:latin typeface="Arial"/>
                <a:ea typeface="Arial"/>
              </a:rPr>
              <a:t>I - elabora escrituração contábil ou balanço com dados inexato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ea typeface="Arial"/>
              </a:rPr>
              <a:t> </a:t>
            </a:r>
            <a:r>
              <a:rPr b="0" i="1" lang="pt-BR" sz="2800" spc="-1" strike="noStrike">
                <a:solidFill>
                  <a:srgbClr val="ffffff"/>
                </a:solidFill>
                <a:latin typeface="Arial"/>
                <a:ea typeface="Arial"/>
              </a:rPr>
              <a:t>II - omite, na escrituração contábil ou no balanço, lançamento que deles deveria constar, ou altera escrituração ou balanço verdadeiro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ea typeface="Arial"/>
              </a:rPr>
              <a:t> </a:t>
            </a:r>
            <a:r>
              <a:rPr b="0" i="1" lang="pt-BR" sz="2800" spc="-1" strike="noStrike">
                <a:solidFill>
                  <a:srgbClr val="ffffff"/>
                </a:solidFill>
                <a:latin typeface="Arial"/>
                <a:ea typeface="Arial"/>
              </a:rPr>
              <a:t>III - destrói, apaga ou corrompe dados contábeis ou negociais armazenados em computador ou sistema informatizado;</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ea typeface="Arial"/>
              </a:rPr>
              <a:t> </a:t>
            </a:r>
            <a:r>
              <a:rPr b="0" i="1" lang="pt-BR" sz="2800" spc="-1" strike="noStrike">
                <a:solidFill>
                  <a:srgbClr val="ffffff"/>
                </a:solidFill>
                <a:latin typeface="Arial"/>
                <a:ea typeface="Arial"/>
              </a:rPr>
              <a:t>IV - simula a composição do capital social;</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ea typeface="Arial"/>
              </a:rPr>
              <a:t> </a:t>
            </a:r>
            <a:r>
              <a:rPr b="0" i="1" lang="pt-BR" sz="2800" spc="-1" strike="noStrike">
                <a:solidFill>
                  <a:srgbClr val="ffffff"/>
                </a:solidFill>
                <a:latin typeface="Arial"/>
                <a:ea typeface="Arial"/>
              </a:rPr>
              <a:t>V - destrói, oculta ou inutiliza, total ou parcialmente, os documentos de escrituração contábil obrigatórios.</a:t>
            </a:r>
            <a:endParaRPr b="0" lang="en-US" sz="2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06" name="PlaceHolder 2"/>
          <p:cNvSpPr>
            <a:spLocks noGrp="1"/>
          </p:cNvSpPr>
          <p:nvPr>
            <p:ph type="subTitle"/>
          </p:nvPr>
        </p:nvSpPr>
        <p:spPr>
          <a:xfrm>
            <a:off x="228600" y="990360"/>
            <a:ext cx="8610480" cy="5562360"/>
          </a:xfrm>
          <a:prstGeom prst="rect">
            <a:avLst/>
          </a:prstGeom>
          <a:noFill/>
          <a:ln w="0">
            <a:noFill/>
          </a:ln>
        </p:spPr>
        <p:txBody>
          <a:bodyPr lIns="90000" rIns="90000" tIns="46800" bIns="46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ea typeface="Arial"/>
              </a:rPr>
              <a:t>A nova "lei de falências", de n° 11.101/05 veio para substituir o Decreto-Lei nº 7.661/45, tendo tramitado no Congresso Nacional por mais de dez anos. Foi apelidada de Lei de Recuperação de Empresas, tendo em vista que sua finalidade é de Regular a recuperação judicial ou extrajudicial do empresário em situação de falência, bem como a própria falência do empresário ou de sociedade empresária, abolindo do nosso ordenamento jurídico a figura da concordata.</a:t>
            </a:r>
            <a:endParaRPr b="0" lang="en-US" sz="30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60" name="PlaceHolder 2"/>
          <p:cNvSpPr>
            <a:spLocks noGrp="1"/>
          </p:cNvSpPr>
          <p:nvPr>
            <p:ph type="subTitle"/>
          </p:nvPr>
        </p:nvSpPr>
        <p:spPr>
          <a:xfrm>
            <a:off x="228600" y="1828440"/>
            <a:ext cx="8610480" cy="4724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Arial"/>
              </a:rPr>
              <a:t>b) No parágrafo § 2º, sob “</a:t>
            </a:r>
            <a:r>
              <a:rPr b="0" i="1" lang="pt-BR" sz="2800" spc="-1" strike="noStrike">
                <a:solidFill>
                  <a:srgbClr val="ffffff"/>
                </a:solidFill>
                <a:latin typeface="Arial"/>
                <a:ea typeface="Arial"/>
              </a:rPr>
              <a:t>nomem iuris”</a:t>
            </a:r>
            <a:r>
              <a:rPr b="0" lang="pt-BR" sz="2800" spc="-1" strike="noStrike">
                <a:solidFill>
                  <a:srgbClr val="ffffff"/>
                </a:solidFill>
                <a:latin typeface="Arial"/>
                <a:ea typeface="Arial"/>
              </a:rPr>
              <a:t> contabilidade paralela, dispôs que a pena é aumentada de 1/3 (um terço) até metade se o devedor manteve ou movimentou recursos ou valores paralelamente à contabilidade exigida pela legislação.</a:t>
            </a:r>
            <a:endParaRPr b="0" lang="en-US" sz="28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62" name="PlaceHolder 2"/>
          <p:cNvSpPr>
            <a:spLocks noGrp="1"/>
          </p:cNvSpPr>
          <p:nvPr>
            <p:ph type="subTitle"/>
          </p:nvPr>
        </p:nvSpPr>
        <p:spPr>
          <a:xfrm>
            <a:off x="228600" y="1066680"/>
            <a:ext cx="8610480" cy="54864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Essa última hipótese de causa de aumento de pena, não encontra correspondência na lei anterior, sendo que as condutas previstas no § 1° do Art. 168, algumas delas, correspondem as prevista anteriormente no Art. 188, cuja pena prevista era a mesma do art. 187, ou seja, de 1 (um) a 4(quatro) anos de reclusão. Veja que nessas hipóteses o legislador foi mais rígido, pois com um só aumento, a pena poderia chegar a 8 (oito) anos.</a:t>
            </a:r>
            <a:endParaRPr b="0" lang="en-US" sz="28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64" name="PlaceHolder 2"/>
          <p:cNvSpPr>
            <a:spLocks noGrp="1"/>
          </p:cNvSpPr>
          <p:nvPr>
            <p:ph type="subTitle"/>
          </p:nvPr>
        </p:nvSpPr>
        <p:spPr>
          <a:xfrm>
            <a:off x="228600" y="304560"/>
            <a:ext cx="8610480" cy="60195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ffff"/>
                </a:solidFill>
                <a:latin typeface="Arial"/>
                <a:ea typeface="Times New Roman"/>
              </a:rPr>
              <a:t> </a:t>
            </a:r>
            <a:r>
              <a:rPr b="0" lang="pt-BR" sz="2500" spc="-1" strike="noStrike">
                <a:solidFill>
                  <a:srgbClr val="ffffff"/>
                </a:solidFill>
                <a:latin typeface="Arial"/>
                <a:ea typeface="Arial"/>
              </a:rPr>
              <a:t>            </a:t>
            </a:r>
            <a:r>
              <a:rPr b="0" lang="pt-BR" sz="2500" spc="-1" strike="noStrike">
                <a:solidFill>
                  <a:srgbClr val="ffffff"/>
                </a:solidFill>
                <a:latin typeface="Arial"/>
                <a:ea typeface="Arial"/>
              </a:rPr>
              <a:t>A nova lei no § 4° do art. 168, ao tratar da causa de diminuição de pena, o fez sob o título de "redução", prevendo a hipótese de redução de 1/3 (um terço) a 2/3 (dois terço), quando se tratar de falência de microempresa ou de empresa de pequeno porte, exigindo ainda a não existência da prática habitual de condutas fraudulentas por parte do falido. Neste caso poderá ainda o juiz substituir a pena privativa de liberdade por restritivas de direitos, por perda de bens e valores ou prestação de serviço à comunidade ou entidades públicas, seguindo assim a mesma orientação da Lei 9.714/98, que alterou o Código Penal quando aumentou as hipóteses de penas restritivas de direitos, que são penas autônomas e substitutivas, conforme Art. 44, </a:t>
            </a:r>
            <a:r>
              <a:rPr b="0" i="1" lang="pt-BR" sz="2500" spc="-1" strike="noStrike">
                <a:solidFill>
                  <a:srgbClr val="ffffff"/>
                </a:solidFill>
                <a:latin typeface="Arial"/>
                <a:ea typeface="Arial"/>
              </a:rPr>
              <a:t>caput</a:t>
            </a:r>
            <a:r>
              <a:rPr b="0" lang="pt-BR" sz="2500" spc="-1" strike="noStrike">
                <a:solidFill>
                  <a:srgbClr val="ffffff"/>
                </a:solidFill>
                <a:latin typeface="Arial"/>
                <a:ea typeface="Arial"/>
              </a:rPr>
              <a:t> do CP.</a:t>
            </a:r>
            <a:endParaRPr b="0" lang="en-US" sz="25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66" name="PlaceHolder 2"/>
          <p:cNvSpPr>
            <a:spLocks noGrp="1"/>
          </p:cNvSpPr>
          <p:nvPr>
            <p:ph type="subTitle"/>
          </p:nvPr>
        </p:nvSpPr>
        <p:spPr>
          <a:xfrm>
            <a:off x="228600" y="1981080"/>
            <a:ext cx="8610480" cy="4572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000000"/>
                </a:solidFill>
                <a:latin typeface="Arial"/>
                <a:ea typeface="Arial"/>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Assim, por força do art. 68 do Código Penal, essas causas de aumento ou diminuição de pena, devem ser analisadas na terceira fase da fixação da pena (Sistema trifásico de Nelson Hungria).</a:t>
            </a:r>
            <a:endParaRPr b="0" lang="en-US" sz="28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68" name="PlaceHolder 2"/>
          <p:cNvSpPr>
            <a:spLocks noGrp="1"/>
          </p:cNvSpPr>
          <p:nvPr>
            <p:ph type="subTitle"/>
          </p:nvPr>
        </p:nvSpPr>
        <p:spPr>
          <a:xfrm>
            <a:off x="228600" y="609480"/>
            <a:ext cx="8610480" cy="59436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Times New Roman"/>
              </a:rPr>
              <a:t>Já na hipótese da substituição da pena, faz-se necessário que o juiz do feito, conclua a fixação da pena privativa de liberdade, para em seguida substituí-la, caso esteja presentes os requisitos exigidos pela lei (diferente dos requisitos do código penal), não sendo uma mera faculdade judicial e sim um direito subjetivo do réu a exemplo do que ocorre com as penas restritivas de direito previstas no Código Penal; cujo entendimento jurisprudencial e doutrinário é pela obrigatoriedade da substituição estando presentes os requisitos.</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70" name="PlaceHolder 2"/>
          <p:cNvSpPr>
            <a:spLocks noGrp="1"/>
          </p:cNvSpPr>
          <p:nvPr>
            <p:ph type="subTitle"/>
          </p:nvPr>
        </p:nvSpPr>
        <p:spPr>
          <a:xfrm>
            <a:off x="228600" y="1447560"/>
            <a:ext cx="8610480" cy="51051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i="1" lang="pt-BR" sz="2800" spc="-1" strike="noStrike">
                <a:solidFill>
                  <a:srgbClr val="ffffff"/>
                </a:solidFill>
                <a:latin typeface="Arial"/>
                <a:ea typeface="Times New Roman"/>
              </a:rPr>
              <a:t>"Torna-se obrigatória a substituição de penas privativas de liberdade por uma das restritivas de direito, quando o juiz reconhece na sentença as circunstâncias favoráveis do art. 59, bem como as condições dos inc. Ie II do art. 44 c/c o seu parágrafo único, todos do CP, caracterizando direito subjetivo do réu" -RSTJ 92/388 – (grifo nosso).</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72" name="PlaceHolder 2"/>
          <p:cNvSpPr>
            <a:spLocks noGrp="1"/>
          </p:cNvSpPr>
          <p:nvPr>
            <p:ph type="subTitle"/>
          </p:nvPr>
        </p:nvSpPr>
        <p:spPr>
          <a:xfrm>
            <a:off x="228600" y="2438280"/>
            <a:ext cx="8610480" cy="41148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O professor Damásio E. de Jesus, ensina que: "</a:t>
            </a:r>
            <a:r>
              <a:rPr b="0" i="1" lang="pt-BR" sz="2800" spc="-1" strike="noStrike">
                <a:solidFill>
                  <a:srgbClr val="ffffff"/>
                </a:solidFill>
                <a:latin typeface="Arial"/>
                <a:ea typeface="Arial"/>
              </a:rPr>
              <a:t>A substituição é obrigatória, se presentes às condições de admissibilidade. Não se trata de simples faculdade judicial"</a:t>
            </a:r>
            <a:r>
              <a:rPr b="0" lang="pt-BR" sz="2800" spc="-1" strike="noStrike">
                <a:solidFill>
                  <a:srgbClr val="ffffff"/>
                </a:solidFill>
                <a:latin typeface="Arial"/>
                <a:ea typeface="Arial"/>
              </a:rPr>
              <a:t>.</a:t>
            </a:r>
            <a:r>
              <a:rPr b="0" lang="pt-BR" sz="2800" spc="-1" strike="noStrike" baseline="30000">
                <a:solidFill>
                  <a:srgbClr val="ffffff"/>
                </a:solidFill>
                <a:latin typeface="Arial"/>
                <a:ea typeface="Arial"/>
              </a:rPr>
              <a:t> (2)</a:t>
            </a:r>
            <a:endParaRPr b="0" lang="en-US" sz="28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74" name="PlaceHolder 2"/>
          <p:cNvSpPr>
            <a:spLocks noGrp="1"/>
          </p:cNvSpPr>
          <p:nvPr>
            <p:ph type="subTitle"/>
          </p:nvPr>
        </p:nvSpPr>
        <p:spPr>
          <a:xfrm>
            <a:off x="228600" y="762120"/>
            <a:ext cx="8610480" cy="57909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000000"/>
                </a:solidFill>
                <a:latin typeface="Arial"/>
                <a:ea typeface="Arial"/>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Vejamos o dispositivo legal:</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ea typeface="Arial"/>
              </a:rPr>
              <a:t> </a:t>
            </a:r>
            <a:r>
              <a:rPr b="0" i="1" lang="pt-BR" sz="2800" spc="-1" strike="noStrike">
                <a:solidFill>
                  <a:srgbClr val="ffffff"/>
                </a:solidFill>
                <a:latin typeface="Arial"/>
                <a:ea typeface="Arial"/>
              </a:rPr>
              <a:t>§ 4º do Art. 168 da Lei n° 11.101/05:</a:t>
            </a:r>
            <a:r>
              <a:rPr b="0" lang="pt-BR" sz="2800" spc="-1" strike="noStrike">
                <a:solidFill>
                  <a:srgbClr val="ffffff"/>
                </a:solidFill>
                <a:latin typeface="Arial"/>
                <a:ea typeface="Arial"/>
              </a:rPr>
              <a:t> "</a:t>
            </a:r>
            <a:r>
              <a:rPr b="0" i="1" lang="pt-BR" sz="2800" spc="-1" strike="noStrike">
                <a:solidFill>
                  <a:srgbClr val="ffffff"/>
                </a:solidFill>
                <a:latin typeface="Arial"/>
                <a:ea typeface="Arial"/>
              </a:rPr>
              <a:t>Tratando-se de falência de microempresa ou de empresa de pequeno porte, e não se constatando prática habitual de condutas fraudulentas por parte do falido, poderá o juiz reduzir a pena de reclusão de 1/3 (um terço) a 2/3 (dois terços) ou substituí-la pelas penas restritivas de direitos, pelas de perda de bens e valores ou pelas de prestação de serviços à comunidade ou a entidades públicas</a:t>
            </a:r>
            <a:r>
              <a:rPr b="0" lang="pt-BR"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76" name="PlaceHolder 2"/>
          <p:cNvSpPr>
            <a:spLocks noGrp="1"/>
          </p:cNvSpPr>
          <p:nvPr>
            <p:ph type="subTitle"/>
          </p:nvPr>
        </p:nvSpPr>
        <p:spPr>
          <a:xfrm>
            <a:off x="228600" y="1981080"/>
            <a:ext cx="8610480" cy="4572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000000"/>
                </a:solidFill>
                <a:latin typeface="Arial"/>
                <a:ea typeface="Times New Roman"/>
              </a:rPr>
              <a:t>     </a:t>
            </a:r>
            <a:r>
              <a:rPr b="0" lang="pt-BR" sz="2800" spc="-1" strike="noStrike">
                <a:solidFill>
                  <a:srgbClr val="ffffff"/>
                </a:solidFill>
                <a:latin typeface="Arial"/>
                <a:ea typeface="Times New Roman"/>
              </a:rPr>
              <a:t>       </a:t>
            </a:r>
            <a:r>
              <a:rPr b="0" lang="pt-BR" sz="2800" spc="-1" strike="noStrike">
                <a:solidFill>
                  <a:srgbClr val="ffffff"/>
                </a:solidFill>
                <a:latin typeface="Arial"/>
                <a:ea typeface="Times New Roman"/>
              </a:rPr>
              <a:t>No caso da substituição por prestação de serviço à comunidade ou a entidades públicas, o juiz da execução penal é quem designará o local ou entidade da prestação do serviço, consoante art. 149, inc. I da Lei n° 7.210/84 – Lei de Execuções Penais – LEP, </a:t>
            </a:r>
            <a:endParaRPr b="0" lang="en-US" sz="28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78" name="PlaceHolder 2"/>
          <p:cNvSpPr>
            <a:spLocks noGrp="1"/>
          </p:cNvSpPr>
          <p:nvPr>
            <p:ph type="subTitle"/>
          </p:nvPr>
        </p:nvSpPr>
        <p:spPr>
          <a:xfrm>
            <a:off x="228600" y="1066680"/>
            <a:ext cx="8610480" cy="54864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sendo que as demais disposições referentes à substituição da pena privativa de liberdade por restritivas de direito, aplicar-se-ão, as regras gerais estabelecidas no Código Penal, sendo que como a lei foi omissa quanto ao descumprimento da pena substitutiva, deverá o juiz proceder à conversão em pena privativa de liberdade, seguindo a mesma regra do art. 44, § 4° do CP, com o fundamento no teor do art. 12 do Código Penal.</a:t>
            </a:r>
            <a:endParaRPr b="0" lang="en-US" sz="28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08" name="PlaceHolder 2"/>
          <p:cNvSpPr>
            <a:spLocks noGrp="1"/>
          </p:cNvSpPr>
          <p:nvPr>
            <p:ph type="subTitle"/>
          </p:nvPr>
        </p:nvSpPr>
        <p:spPr>
          <a:xfrm>
            <a:off x="228600" y="990360"/>
            <a:ext cx="8610480" cy="55623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Limitaremos neste trabalho a realizar uma análise sucinta dos novos crimes falimentares, bem como demais institutos de natureza penal, tais como a prescrição, abolitio criminis, atuação do Ministério Público, podendo inicialmente ser mencionado que a nova lei extinguiu o polêmico inquérito judicial que era instaurado pelo juiz competente para o processo de falências e concordata, visando apurar a ocorrência de crimes falimentares.</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80" name="PlaceHolder 2"/>
          <p:cNvSpPr>
            <a:spLocks noGrp="1"/>
          </p:cNvSpPr>
          <p:nvPr>
            <p:ph type="subTitle"/>
          </p:nvPr>
        </p:nvSpPr>
        <p:spPr>
          <a:xfrm>
            <a:off x="228600" y="380520"/>
            <a:ext cx="8610480" cy="6172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rtigo 169 e Artigo 170</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Dispõe a lei:</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ea typeface="Arial"/>
              </a:rPr>
              <a:t> </a:t>
            </a:r>
            <a:r>
              <a:rPr b="0" i="1" lang="pt-BR" sz="2800" spc="-1" strike="noStrike">
                <a:solidFill>
                  <a:srgbClr val="ffffff"/>
                </a:solidFill>
                <a:latin typeface="Arial"/>
                <a:ea typeface="Arial"/>
              </a:rPr>
              <a:t>Art. 169 “ que aquele que violar, explorar ou divulgar, sem justa causa, sigilo empresarial ou dados confidenciais sobre operações ou serviços, contribuindo para a condução do devedor a estado de inviabilidade econômica ou financeira, responderá por uma pena de 2 (dois) a 4(quatro) anos de reclusão, e multa.”</a:t>
            </a:r>
            <a:endParaRPr b="0" lang="en-US" sz="28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82" name="PlaceHolder 2"/>
          <p:cNvSpPr>
            <a:spLocks noGrp="1"/>
          </p:cNvSpPr>
          <p:nvPr>
            <p:ph type="subTitle"/>
          </p:nvPr>
        </p:nvSpPr>
        <p:spPr>
          <a:xfrm>
            <a:off x="228600" y="1828440"/>
            <a:ext cx="8610480" cy="4724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i="1" lang="pt-BR" sz="2800" spc="-1" strike="noStrike">
                <a:solidFill>
                  <a:srgbClr val="ffffff"/>
                </a:solidFill>
                <a:latin typeface="Arial"/>
                <a:ea typeface="Arial"/>
              </a:rPr>
              <a:t>Art. 170 “Divulgar ou propalar, por qualquer meio, informação falsa sobre devedor em recuperação judicial, com o fim de levá-lo à falência ou de obter vantagem; pena - reclusão, de 2 (dois) a 4 (quatro) anos, e multa.”</a:t>
            </a:r>
            <a:endParaRPr b="0" lang="en-US" sz="28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84" name="PlaceHolder 2"/>
          <p:cNvSpPr>
            <a:spLocks noGrp="1"/>
          </p:cNvSpPr>
          <p:nvPr>
            <p:ph type="subTitle"/>
          </p:nvPr>
        </p:nvSpPr>
        <p:spPr>
          <a:xfrm>
            <a:off x="228600" y="304920"/>
            <a:ext cx="8610480" cy="62481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Este delito não encontra correspondência em nenhum dos delitos revogados, na antiga lei de falência, tratando-se então de “</a:t>
            </a:r>
            <a:r>
              <a:rPr b="0" i="1" lang="pt-BR" sz="2800" spc="-1" strike="noStrike">
                <a:solidFill>
                  <a:srgbClr val="ffffff"/>
                </a:solidFill>
                <a:latin typeface="Arial"/>
                <a:ea typeface="Arial"/>
              </a:rPr>
              <a:t>novatio legis”</a:t>
            </a:r>
            <a:r>
              <a:rPr b="0" lang="pt-BR" sz="2800" spc="-1" strike="noStrike">
                <a:solidFill>
                  <a:srgbClr val="ffffff"/>
                </a:solidFill>
                <a:latin typeface="Arial"/>
                <a:ea typeface="Arial"/>
              </a:rPr>
              <a:t> incriminadora, que não pode atingir àqueles que praticaram tal conduta na vigência da lei anterior. Entretanto, caso não haja a decretação da falência ou a concessão da recuperação judicial ou extrajudicial, pode caracterizar algum dos delitos previsto no código penal, entre eles, podemos citar os crimes previstos nos arts. 153 e 154, do CP, respectivamente os crimes de violação de segredo ou violação do segredo profissional, conforme o caso concreto.</a:t>
            </a:r>
            <a:endParaRPr b="0" lang="en-US" sz="28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86" name="PlaceHolder 2"/>
          <p:cNvSpPr>
            <a:spLocks noGrp="1"/>
          </p:cNvSpPr>
          <p:nvPr>
            <p:ph type="subTitle"/>
          </p:nvPr>
        </p:nvSpPr>
        <p:spPr>
          <a:xfrm>
            <a:off x="228600" y="1143000"/>
            <a:ext cx="8610480" cy="54100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O bem jurídico tutelado é a inviolabilidade do sigilo empresarial que não pode ser revelado sem justa causa, o que estaria violando o princípio Constitucional descrito no artigo 5º, X.</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O sujeito ativo é qualquer pessoa e o passivo pode ser o empresário ou a sociedade.</a:t>
            </a:r>
            <a:endParaRPr b="0" lang="en-US" sz="2800" spc="-1" strike="noStrike">
              <a:solidFill>
                <a:srgbClr val="ffffff"/>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88" name="PlaceHolder 2"/>
          <p:cNvSpPr>
            <a:spLocks noGrp="1"/>
          </p:cNvSpPr>
          <p:nvPr>
            <p:ph type="subTitle"/>
          </p:nvPr>
        </p:nvSpPr>
        <p:spPr>
          <a:xfrm>
            <a:off x="228600" y="1600200"/>
            <a:ext cx="8610480" cy="49528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000000"/>
                </a:solidFill>
                <a:latin typeface="Arial"/>
                <a:ea typeface="Arial"/>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O elemento subjetivo do tipo é o dolo, inexistindo a forma culposa, pois a culpa é normativa. O delito não exige um fim específico (elemento subjetivo específico), basta que essa divulgação dolosa contribuía para levar o devedor ao estado de inviabilidade econômica ou financeira.</a:t>
            </a:r>
            <a:endParaRPr b="0" lang="en-US" sz="28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90" name="PlaceHolder 2"/>
          <p:cNvSpPr>
            <a:spLocks noGrp="1"/>
          </p:cNvSpPr>
          <p:nvPr>
            <p:ph type="subTitle"/>
          </p:nvPr>
        </p:nvSpPr>
        <p:spPr>
          <a:xfrm>
            <a:off x="228600" y="1294920"/>
            <a:ext cx="8610480" cy="52578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Times New Roman"/>
              </a:rPr>
              <a:t>Já o elemento normativo do tipo é a expressão "sem justa causa", indicando que não é qualquer revelação de sigilo empresarial ou confidencial que irá caracterizar o delito ex: uma pessoa acusada de crime que entrega uma carta à Autoridade Policial, cujo conteúdo venha revelar o verdadeiro autor que é o empresário, ou diretor de sociedade, bem como algum sigilo empresarial que possa levá-lo à falência</a:t>
            </a:r>
            <a:r>
              <a:rPr b="0" lang="pt-BR" sz="2800" spc="-1" strike="noStrike">
                <a:solidFill>
                  <a:srgbClr val="000000"/>
                </a:solidFill>
                <a:latin typeface="Arial"/>
                <a:ea typeface="Times New Roman"/>
              </a:rPr>
              <a:t>. </a:t>
            </a:r>
            <a:endParaRPr b="0" lang="en-US" sz="2800" spc="-1" strike="noStrike">
              <a:solidFill>
                <a:srgbClr val="ffffff"/>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92" name="PlaceHolder 2"/>
          <p:cNvSpPr>
            <a:spLocks noGrp="1"/>
          </p:cNvSpPr>
          <p:nvPr>
            <p:ph type="subTitle"/>
          </p:nvPr>
        </p:nvSpPr>
        <p:spPr>
          <a:xfrm>
            <a:off x="228600" y="1447560"/>
            <a:ext cx="8610480" cy="51051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Tal pessoa não está divulgando sem justa causa. Aliás, o art. 233, Parágrafo único do Código de Processo Penal, expressamente prevê essa hipótese, quando dispõe que: </a:t>
            </a:r>
            <a:r>
              <a:rPr b="0" i="1" lang="pt-BR" sz="2800" spc="-1" strike="noStrike">
                <a:solidFill>
                  <a:srgbClr val="ffffff"/>
                </a:solidFill>
                <a:latin typeface="Arial"/>
                <a:ea typeface="Arial"/>
              </a:rPr>
              <a:t>"as cartas poderão ser exibidas em juízo pelo respectivo destinatário, para a defesa de seu direito, ainda que não haja consentimento do signatário".</a:t>
            </a:r>
            <a:endParaRPr b="0" lang="en-US" sz="28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94" name="PlaceHolder 2"/>
          <p:cNvSpPr>
            <a:spLocks noGrp="1"/>
          </p:cNvSpPr>
          <p:nvPr>
            <p:ph type="subTitle"/>
          </p:nvPr>
        </p:nvSpPr>
        <p:spPr>
          <a:xfrm>
            <a:off x="228600" y="1294920"/>
            <a:ext cx="8610480" cy="52578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rt.171</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lang="pt-BR" sz="2800" spc="-1" strike="noStrike">
                <a:solidFill>
                  <a:srgbClr val="ffffff"/>
                </a:solidFill>
                <a:latin typeface="Arial"/>
                <a:ea typeface="Arial"/>
              </a:rPr>
              <a:t>O delito de indução a erro, previsto no art. 171 da nova lei, cuja pena em abstrato é de 2(dois) a 4 (quatro) anos, também se trata de “</a:t>
            </a:r>
            <a:r>
              <a:rPr b="0" i="1" lang="pt-BR" sz="2800" spc="-1" strike="noStrike">
                <a:solidFill>
                  <a:srgbClr val="ffffff"/>
                </a:solidFill>
                <a:latin typeface="Arial"/>
                <a:ea typeface="Arial"/>
              </a:rPr>
              <a:t>novatio</a:t>
            </a:r>
            <a:r>
              <a:rPr b="0" lang="pt-BR" sz="2800" spc="-1" strike="noStrike">
                <a:solidFill>
                  <a:srgbClr val="ffffff"/>
                </a:solidFill>
                <a:latin typeface="Arial"/>
                <a:ea typeface="Arial"/>
              </a:rPr>
              <a:t> </a:t>
            </a:r>
            <a:r>
              <a:rPr b="0" i="1" lang="pt-BR" sz="2800" spc="-1" strike="noStrike">
                <a:solidFill>
                  <a:srgbClr val="ffffff"/>
                </a:solidFill>
                <a:latin typeface="Arial"/>
                <a:ea typeface="Arial"/>
              </a:rPr>
              <a:t>legis”</a:t>
            </a:r>
            <a:r>
              <a:rPr b="0" lang="pt-BR" sz="2800" spc="-1" strike="noStrike">
                <a:solidFill>
                  <a:srgbClr val="ffffff"/>
                </a:solidFill>
                <a:latin typeface="Arial"/>
                <a:ea typeface="Arial"/>
              </a:rPr>
              <a:t> incriminadora, pois não era previsto na lei anterior, vejamos o seu teor: </a:t>
            </a:r>
            <a:endParaRPr b="0" lang="en-US" sz="2800" spc="-1" strike="noStrike">
              <a:solidFill>
                <a:srgbClr val="ffffff"/>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96" name="PlaceHolder 2"/>
          <p:cNvSpPr>
            <a:spLocks noGrp="1"/>
          </p:cNvSpPr>
          <p:nvPr>
            <p:ph type="subTitle"/>
          </p:nvPr>
        </p:nvSpPr>
        <p:spPr>
          <a:xfrm>
            <a:off x="228600" y="1447560"/>
            <a:ext cx="8610480" cy="51051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Art.171 </a:t>
            </a:r>
            <a:r>
              <a:rPr b="0" i="1" lang="pt-BR" sz="2800" spc="-1" strike="noStrike">
                <a:solidFill>
                  <a:srgbClr val="ffffff"/>
                </a:solidFill>
                <a:latin typeface="Arial"/>
                <a:ea typeface="Arial"/>
              </a:rPr>
              <a:t>"Sonegar ou omitir informações ou prestar informações falsas no processo de falência, de recuperação judicial ou de recuperação extrajudicial, com o fim de induzir a erro o juiz, o Ministério Público, os credores, a assembléia-geral de credores, o Comitê ou o administrador judicial"</a:t>
            </a:r>
            <a:r>
              <a:rPr b="0" lang="pt-BR"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99036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98" name="PlaceHolder 2"/>
          <p:cNvSpPr>
            <a:spLocks noGrp="1"/>
          </p:cNvSpPr>
          <p:nvPr>
            <p:ph type="subTitle"/>
          </p:nvPr>
        </p:nvSpPr>
        <p:spPr>
          <a:xfrm>
            <a:off x="228600" y="914040"/>
            <a:ext cx="8610480" cy="56386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Referido delito é parente próximo do delito de Fraude Processual, previsto no art. 347 do CP, cuja pena é de 3 (três) meses a 2 (dois) anos e multa, o qual proíbe a inovação artificiosa, na pendência de processo civil ou administrativo, ou estado de lugar, de coisa ou de pessoa, com o fim de induzir o juiz ou o perito a erro. Tratando-se de crime contra a Administração da justiça.</a:t>
            </a:r>
            <a:endParaRPr b="0" lang="en-US" sz="28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10" name="PlaceHolder 2"/>
          <p:cNvSpPr>
            <a:spLocks noGrp="1"/>
          </p:cNvSpPr>
          <p:nvPr>
            <p:ph type="subTitle"/>
          </p:nvPr>
        </p:nvSpPr>
        <p:spPr>
          <a:xfrm>
            <a:off x="228600" y="1447560"/>
            <a:ext cx="8610480" cy="51051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Para perfeita compreensão, é necessário que algumas questões relacionadas com o direito penal, de natureza intertemporal, isso é, quando uma lei nova criminal revoga a anterior temos sempre que descobrir qual delas deve incidir no caso concreto (a antiga ou a nova). Algumas regras básicas sobre o assunto são as seguintes:</a:t>
            </a:r>
            <a:endParaRPr b="0" lang="en-US" sz="28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00" name="PlaceHolder 2"/>
          <p:cNvSpPr>
            <a:spLocks noGrp="1"/>
          </p:cNvSpPr>
          <p:nvPr>
            <p:ph type="subTitle"/>
          </p:nvPr>
        </p:nvSpPr>
        <p:spPr>
          <a:xfrm>
            <a:off x="228600" y="533160"/>
            <a:ext cx="8610480" cy="60195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000000"/>
                </a:solidFill>
                <a:latin typeface="Arial"/>
                <a:ea typeface="Arial"/>
              </a:rPr>
              <a:t> </a:t>
            </a:r>
            <a:r>
              <a:rPr b="0" lang="pt-BR" sz="2800" spc="-1" strike="noStrike">
                <a:solidFill>
                  <a:srgbClr val="ffffff"/>
                </a:solidFill>
                <a:latin typeface="Arial"/>
                <a:ea typeface="Arial"/>
              </a:rPr>
              <a:t>Trata-se de crime comum, podendo qualquer pessoa envolvida no processo de falência, de recuperação judicial ou extrajudicial, com exceção do réu (ver explicação abaixo), ser sujeito ativo do crime de indução a erro, previsto no art. 171 da nova lei, sendo que como sujeito passivo, podem figurar o Juiz, o Ministério Público, o Administrador Judicial (crime contra a Administração da Justiça), os credores, a assembléia-geral de credores, o Comitê de Credores.</a:t>
            </a:r>
            <a:endParaRPr b="0" lang="en-US" sz="28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02" name="PlaceHolder 2"/>
          <p:cNvSpPr>
            <a:spLocks noGrp="1"/>
          </p:cNvSpPr>
          <p:nvPr>
            <p:ph type="subTitle"/>
          </p:nvPr>
        </p:nvSpPr>
        <p:spPr>
          <a:xfrm>
            <a:off x="228600" y="380520"/>
            <a:ext cx="8610480" cy="6172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ffff"/>
                </a:solidFill>
                <a:latin typeface="Arial"/>
                <a:ea typeface="Times New Roman"/>
              </a:rPr>
              <a:t> </a:t>
            </a:r>
            <a:r>
              <a:rPr b="0" lang="pt-BR" sz="2500" spc="-1" strike="noStrike">
                <a:solidFill>
                  <a:srgbClr val="ffffff"/>
                </a:solidFill>
                <a:latin typeface="Arial"/>
                <a:ea typeface="Arial"/>
              </a:rPr>
              <a:t>O elemento normativo do tipo seria sonegar ou omitir informações (se calar) ou prestar informações falsas (mentir), exigindo-se como elemento subjetivo, o dolo específico de induzir o juiz, o promotor e as demais vítimas em erro, motivo pelo qual o réu foi excepcionado no parágrafo anterior com sujeito ativo, pois tem a seu favor o Art. 5°, inc. II, da CF, que garante o direito de não ser obrigado a fazer ou deixar de fazer alguma coisa, senão em virtude de lei, ou seja, poderia o réu fazer uso do seu direito constitucional de permanecer em silêncio, sonegando ou omitindo informações do juiz ou das demais vítimas relacionadas tipo penal, bem como mentir em seu favor, prestando informações falsas.</a:t>
            </a:r>
            <a:endParaRPr b="0" lang="en-US" sz="25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04" name="PlaceHolder 2"/>
          <p:cNvSpPr>
            <a:spLocks noGrp="1"/>
          </p:cNvSpPr>
          <p:nvPr>
            <p:ph type="subTitle"/>
          </p:nvPr>
        </p:nvSpPr>
        <p:spPr>
          <a:xfrm>
            <a:off x="228600" y="2057400"/>
            <a:ext cx="8610480" cy="44956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A conduta sonegar ou omitir (omissivas) ou prestar (comissiva) devem ocorrer durante o processo falimentar, processo de recuperação judicial ou extrajudicial.</a:t>
            </a:r>
            <a:endParaRPr b="0" lang="en-US" sz="2800" spc="-1" strike="noStrike">
              <a:solidFill>
                <a:srgbClr val="ffffff"/>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06" name="PlaceHolder 2"/>
          <p:cNvSpPr>
            <a:spLocks noGrp="1"/>
          </p:cNvSpPr>
          <p:nvPr>
            <p:ph type="subTitle"/>
          </p:nvPr>
        </p:nvSpPr>
        <p:spPr>
          <a:xfrm>
            <a:off x="228600" y="837720"/>
            <a:ext cx="8610480" cy="5715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Artigo 172</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lang="pt-BR" sz="2800" spc="-1" strike="noStrike">
                <a:solidFill>
                  <a:srgbClr val="ffffff"/>
                </a:solidFill>
                <a:latin typeface="Arial"/>
                <a:ea typeface="Arial"/>
              </a:rPr>
              <a:t>O legislador visando proteger os credores de boa-fé, de atos praticados pelo empresário devedor, em prol de um ou mais credores, inovou com o crime de Favorecimento de credores, através do art. 172, cuja pena é de 2 (dois) a 5 (cinco) anos de reclusão e multa, para aquele que:</a:t>
            </a:r>
            <a:endParaRPr b="0" lang="en-US" sz="28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08" name="PlaceHolder 2"/>
          <p:cNvSpPr>
            <a:spLocks noGrp="1"/>
          </p:cNvSpPr>
          <p:nvPr>
            <p:ph type="subTitle"/>
          </p:nvPr>
        </p:nvSpPr>
        <p:spPr>
          <a:xfrm>
            <a:off x="228600" y="1447560"/>
            <a:ext cx="8610480" cy="51051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i="1" lang="pt-BR" sz="2800" spc="-1" strike="noStrike">
                <a:solidFill>
                  <a:srgbClr val="ffffff"/>
                </a:solidFill>
                <a:latin typeface="Arial"/>
                <a:ea typeface="Times New Roman"/>
              </a:rPr>
              <a:t>praticar, antes ou depois da sentença que decretar a falência, conceder a recuperação judicial ou homologar plano de recuperação extrajudicial, ato de disposição ou oneração patrimonial ou gerador de obrigação, destinado a favorecer um ou mais credores em prejuízo dos demais</a:t>
            </a:r>
            <a:r>
              <a:rPr b="0" lang="pt-BR" sz="2800" spc="-1" strike="noStrike">
                <a:solidFill>
                  <a:srgbClr val="ffffff"/>
                </a:solidFill>
                <a:latin typeface="Arial"/>
                <a:ea typeface="Times New Roman"/>
              </a:rPr>
              <a:t>".</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10" name="PlaceHolder 2"/>
          <p:cNvSpPr>
            <a:spLocks noGrp="1"/>
          </p:cNvSpPr>
          <p:nvPr>
            <p:ph type="subTitle"/>
          </p:nvPr>
        </p:nvSpPr>
        <p:spPr>
          <a:xfrm>
            <a:off x="228600" y="1904760"/>
            <a:ext cx="8610480" cy="46479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No parágrafo único, previu a possibilidade do credor de má-fé, beneficiário dessa disposição ou oneração patrimonial, também ser apenado em co-autoria no delito em comento.</a:t>
            </a:r>
            <a:endParaRPr b="0" lang="en-US" sz="2800" spc="-1" strike="noStrike">
              <a:solidFill>
                <a:srgbClr val="ffffff"/>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12" name="PlaceHolder 2"/>
          <p:cNvSpPr>
            <a:spLocks noGrp="1"/>
          </p:cNvSpPr>
          <p:nvPr>
            <p:ph type="subTitle"/>
          </p:nvPr>
        </p:nvSpPr>
        <p:spPr>
          <a:xfrm>
            <a:off x="228600" y="1294920"/>
            <a:ext cx="8610480" cy="52578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O sujeito ativo então é o empresário devedor ou no caso de sociedade, os seus sócios, diretores, gerentes, administradores e conselheiros, de fato ou de direito, bem como o administrador judicial, cuja conduta (comissiva), será a de dispor ou onerar o patrimônio ou gerar obrigação, destinado a favorecer um ou mais credores em prejuízo do sujeito passivo que são os demais credores.</a:t>
            </a:r>
            <a:endParaRPr b="0" lang="en-US" sz="28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14" name="PlaceHolder 2"/>
          <p:cNvSpPr>
            <a:spLocks noGrp="1"/>
          </p:cNvSpPr>
          <p:nvPr>
            <p:ph type="subTitle"/>
          </p:nvPr>
        </p:nvSpPr>
        <p:spPr>
          <a:xfrm>
            <a:off x="228600" y="1371240"/>
            <a:ext cx="8610480" cy="51814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O tipo penal exige a ocorrência do prejuízo ou a possibilidade de prejuízo, no caso da tentativa, pois o empresário falido, poderia ser flagrado durante o ato de disposição ou oneração do patrimônio, interrompendo então o “iter criminis”, sendo que a conduta flagrada, deverá demonstrar nitidamente a hipótese de prejuízo</a:t>
            </a:r>
            <a:r>
              <a:rPr b="0" lang="pt-BR" sz="2800" spc="-1" strike="noStrike">
                <a:solidFill>
                  <a:srgbClr val="ffffff"/>
                </a:solidFill>
                <a:latin typeface="Verdana"/>
                <a:ea typeface="Times New Roman"/>
              </a:rPr>
              <a:t>.</a:t>
            </a:r>
            <a:endParaRPr b="0" lang="en-US" sz="28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16" name="PlaceHolder 2"/>
          <p:cNvSpPr>
            <a:spLocks noGrp="1"/>
          </p:cNvSpPr>
          <p:nvPr>
            <p:ph type="subTitle"/>
          </p:nvPr>
        </p:nvSpPr>
        <p:spPr>
          <a:xfrm>
            <a:off x="228600" y="837720"/>
            <a:ext cx="8610480" cy="5715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Desvio, ocultação ou apropriação de ben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rt. 173. Apropriar-se, desviar ou ocultar bens pertencentes ao devedor sob recuperação judicial ou à massa falida, inclusive por meio da aquisição por interposta pessoa:</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Pena - reclusão, de 2 (dois) a 4 (quatro) anos, e multa.</a:t>
            </a:r>
            <a:endParaRPr b="0" lang="en-US" sz="2800" spc="-1" strike="noStrike">
              <a:solidFill>
                <a:srgbClr val="ffffff"/>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18" name="PlaceHolder 2"/>
          <p:cNvSpPr>
            <a:spLocks noGrp="1"/>
          </p:cNvSpPr>
          <p:nvPr>
            <p:ph type="subTitle"/>
          </p:nvPr>
        </p:nvSpPr>
        <p:spPr>
          <a:xfrm>
            <a:off x="228600" y="990360"/>
            <a:ext cx="8610480" cy="55623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Aquisição, recebimento ou uso ilegal de ben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rt. 174. Adquirir, receber, usar, ilicitamente, bem que sabe pertencer à massa falida ou influir para que terceiro, de boa-fé, o adquira, receba ou use:</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Pena - reclusão, de 2 (dois) a 4 (quatro) anos, e multa.</a:t>
            </a:r>
            <a:endParaRPr b="0" lang="en-US" sz="28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12" name="PlaceHolder 2"/>
          <p:cNvSpPr>
            <a:spLocks noGrp="1"/>
          </p:cNvSpPr>
          <p:nvPr>
            <p:ph type="subTitle"/>
          </p:nvPr>
        </p:nvSpPr>
        <p:spPr>
          <a:xfrm>
            <a:off x="228600" y="380520"/>
            <a:ext cx="8610480" cy="6172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 lei penal nova incriminadora (lei nova que cria novo delito): é irretroativa (só alcança os fatos ocorridos da vigência para frente);</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b) lei penal nova prejudicial (porque aumentou pena, agravou sua execução, aumentou o prazo prescricional etc.): é irretroativa (só vale para fatos ocorridos da sua vigência para frente); </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 lei penal nova favorável (porque diminuiu pena, criou condição de procedibilidade nova, restringiu prazo prescricional etc.): é retroativa (tem extra-atividade e alcança os fatos passado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20" name="PlaceHolder 2"/>
          <p:cNvSpPr>
            <a:spLocks noGrp="1"/>
          </p:cNvSpPr>
          <p:nvPr>
            <p:ph type="subTitle"/>
          </p:nvPr>
        </p:nvSpPr>
        <p:spPr>
          <a:xfrm>
            <a:off x="228600" y="380520"/>
            <a:ext cx="8610480" cy="6172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Habilitação ilegal de crédito</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rt. 175. Apresentar, em falência, recuperação judicial ou recuperação extrajudicial, relação de créditos, habilitação de créditos ou reclamação falsas, ou juntar a elas título falso ou simulado:</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Pena - reclusão, de 2 (dois) a 4 (quatro) anos, e multa.</a:t>
            </a:r>
            <a:endParaRPr b="0" lang="en-US" sz="2800" spc="-1" strike="noStrike">
              <a:solidFill>
                <a:srgbClr val="ffffff"/>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22" name="PlaceHolder 2"/>
          <p:cNvSpPr>
            <a:spLocks noGrp="1"/>
          </p:cNvSpPr>
          <p:nvPr>
            <p:ph type="subTitle"/>
          </p:nvPr>
        </p:nvSpPr>
        <p:spPr>
          <a:xfrm>
            <a:off x="228600" y="1828440"/>
            <a:ext cx="8610480" cy="4724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Exercício ilegal de atividade</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rt. 176. Exercer atividade para a qual foi inabilitado ou incapacitado por decisão judicial, nos termos desta Lei:</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Pena - reclusão, de 1 (um) a 4 (quatro) anos, e multa.</a:t>
            </a:r>
            <a:endParaRPr b="0" lang="en-US" sz="2800" spc="-1" strike="noStrike">
              <a:solidFill>
                <a:srgbClr val="ffffff"/>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24" name="PlaceHolder 2"/>
          <p:cNvSpPr>
            <a:spLocks noGrp="1"/>
          </p:cNvSpPr>
          <p:nvPr>
            <p:ph type="subTitle"/>
          </p:nvPr>
        </p:nvSpPr>
        <p:spPr>
          <a:xfrm>
            <a:off x="228600" y="762120"/>
            <a:ext cx="8610480" cy="57909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Violação de impedimento</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rt. 177. Adquirir o juiz, o representante do Ministério Público, o administrador judicial, o gestor judicial, o perito, o avaliador, o escrivão, o oficial de justiça ou o leiloeiro, por si ou por interposta pessoa, bens de massa falida ou de devedor em recuperação judicial, ou, em relação a estes, entrar em alguma especulação de lucro, quando tenham atuado nos respectivos processo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Pena - reclusão, de 2 (dois) a 4 (quatro) anos, e multa.</a:t>
            </a:r>
            <a:endParaRPr b="0" lang="en-US" sz="2800" spc="-1" strike="noStrike">
              <a:solidFill>
                <a:srgbClr val="ffffff"/>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26" name="PlaceHolder 2"/>
          <p:cNvSpPr>
            <a:spLocks noGrp="1"/>
          </p:cNvSpPr>
          <p:nvPr>
            <p:ph type="subTitle"/>
          </p:nvPr>
        </p:nvSpPr>
        <p:spPr>
          <a:xfrm>
            <a:off x="228600" y="685800"/>
            <a:ext cx="8610480" cy="5867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Omissão dos documentos contábeis obrigatório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rt. 178. Deixar de elaborar, escriturar ou autenticar, antes ou depois da sentença que decretar a falência, conceder a recuperação judicial ou homologar o plano de recuperação extrajudicial, os documentos de escrituração contábil obrigatório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Pena - detenção, de 1 (um) a 2 (dois) anos, e multa, se o fato não constitui crime mais grave.</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28" name="PlaceHolder 2"/>
          <p:cNvSpPr>
            <a:spLocks noGrp="1"/>
          </p:cNvSpPr>
          <p:nvPr>
            <p:ph type="subTitle"/>
          </p:nvPr>
        </p:nvSpPr>
        <p:spPr>
          <a:xfrm>
            <a:off x="228600" y="1143000"/>
            <a:ext cx="8610480" cy="54100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Art. 179. Na falência, na recuperação judicial e na recuperação extrajudicial de sociedades, os seus sócios, diretores, gerentes, administradores e conselheiros, de fato ou de direito, bem como o administrador judicial, equiparam-se ao devedor ou falido para todos os efeitos penais decorrentes desta Lei, na medida de sua culpabilidade. </a:t>
            </a:r>
            <a:endParaRPr b="0" lang="en-US" sz="2800" spc="-1" strike="noStrike">
              <a:solidFill>
                <a:srgbClr val="ffffff"/>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30" name="PlaceHolder 2"/>
          <p:cNvSpPr>
            <a:spLocks noGrp="1"/>
          </p:cNvSpPr>
          <p:nvPr>
            <p:ph type="subTitle"/>
          </p:nvPr>
        </p:nvSpPr>
        <p:spPr>
          <a:xfrm>
            <a:off x="228600" y="1523880"/>
            <a:ext cx="8610480" cy="5029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Times New Roman"/>
              </a:rPr>
              <a:t>Art. 180. A sentença que decreta a falência, concede a recuperaçao judicial ou concede a recuperação extrajudicial de que trata o art. 163 desta Lei é condição objetiva de punibilidade das infrações penais descritas nessa Lei.</a:t>
            </a:r>
            <a:endParaRPr b="0" lang="en-US" sz="2800" spc="-1" strike="noStrike">
              <a:solidFill>
                <a:srgbClr val="ffffff"/>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32" name="PlaceHolder 2"/>
          <p:cNvSpPr>
            <a:spLocks noGrp="1"/>
          </p:cNvSpPr>
          <p:nvPr>
            <p:ph type="subTitle"/>
          </p:nvPr>
        </p:nvSpPr>
        <p:spPr>
          <a:xfrm>
            <a:off x="228600" y="1600200"/>
            <a:ext cx="8610480" cy="49528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No caso das sociedades, os sócios, diretores, gerentes, administradores e conselheiros, de fato ou de direito, bem como o administrador judicial; também poderão responder pelo delito do Art. 168, por força do teor do art. 179 da mesma lei.</a:t>
            </a:r>
            <a:endParaRPr b="0" lang="en-US" sz="2800" spc="-1" strike="noStrike">
              <a:solidFill>
                <a:srgbClr val="ffffff"/>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34" name="PlaceHolder 2"/>
          <p:cNvSpPr>
            <a:spLocks noGrp="1"/>
          </p:cNvSpPr>
          <p:nvPr>
            <p:ph type="subTitle"/>
          </p:nvPr>
        </p:nvSpPr>
        <p:spPr>
          <a:xfrm>
            <a:off x="228600" y="914040"/>
            <a:ext cx="8610480" cy="56386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Arial"/>
              </a:rPr>
              <a:t>Art. 181. São efeitos da condenação por crime previsto nesta Lei:</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I - a inabilitação para o exercício de atividade empresarial;</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II - o impedimento para o exercício de cargo ou função em conselho de administração, diretoria ou gerência das sociedades sujeitas a esta Lei;</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III - a impossibilidade de gerir empresa por mandato ou por gestão de negócio.</a:t>
            </a:r>
            <a:endParaRPr b="0" lang="en-US" sz="2800" spc="-1" strike="noStrike">
              <a:solidFill>
                <a:srgbClr val="ffffff"/>
              </a:solidFill>
              <a:latin typeface="Times New Roman"/>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36" name="PlaceHolder 2"/>
          <p:cNvSpPr>
            <a:spLocks noGrp="1"/>
          </p:cNvSpPr>
          <p:nvPr>
            <p:ph type="subTitle"/>
          </p:nvPr>
        </p:nvSpPr>
        <p:spPr>
          <a:xfrm>
            <a:off x="228600" y="1066680"/>
            <a:ext cx="8610480" cy="54864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1 ° Os efeitos de que trata este artigo não são automáticos, devendo ser motivadamente declarados na sentença, e perdurarão até 5 (cinco) anos após a extinção da punibilidade, podendo, contudo, cessar antes pela reabilitação penal.</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2° Transitada em julgado a sentença penal condenatória, será notificado o Registro Público de Empresas para que tome as medidas necessárias para impedir novo registro em nome dos inabilitados.</a:t>
            </a:r>
            <a:endParaRPr b="0" lang="en-US" sz="2800" spc="-1" strike="noStrike">
              <a:solidFill>
                <a:srgbClr val="ffffff"/>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38" name="PlaceHolder 2"/>
          <p:cNvSpPr>
            <a:spLocks noGrp="1"/>
          </p:cNvSpPr>
          <p:nvPr>
            <p:ph type="subTitle"/>
          </p:nvPr>
        </p:nvSpPr>
        <p:spPr>
          <a:xfrm>
            <a:off x="228600" y="380520"/>
            <a:ext cx="8610480" cy="6172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PT" sz="2800" spc="-1" strike="noStrike">
                <a:solidFill>
                  <a:srgbClr val="ffffff"/>
                </a:solidFill>
                <a:latin typeface="Arial"/>
                <a:ea typeface="Times New Roman"/>
              </a:rPr>
              <a:t>Art. 182. A prescrição dos crimes previstos nesta Lei reger-se-á pelas disposições do Decreto-Lei n</a:t>
            </a:r>
            <a:r>
              <a:rPr b="0" lang="pt-PT" sz="2800" spc="-1" strike="noStrike" baseline="30000">
                <a:solidFill>
                  <a:srgbClr val="ffffff"/>
                </a:solidFill>
                <a:latin typeface="Arial"/>
                <a:ea typeface="Times New Roman"/>
              </a:rPr>
              <a:t>a</a:t>
            </a:r>
            <a:r>
              <a:rPr b="0" lang="pt-PT" sz="2800" spc="-1" strike="noStrike">
                <a:solidFill>
                  <a:srgbClr val="ffffff"/>
                </a:solidFill>
                <a:latin typeface="Arial"/>
                <a:ea typeface="Times New Roman"/>
              </a:rPr>
              <a:t> 2.848, de 7 de dezembro de 1940 - Códi­go Penal, começando a correr do dia da decretação da falência, da con­cessão da recuperação judicial ou da homologação do plano de recuperação extrajudicial.</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a:ea typeface="Times New Roman"/>
              </a:rPr>
              <a:t>Parágrafo único. A decretação da falência do devedor interrompe a pres­crição cuja contagem tenha iniciado com a concessão da recuperação judicial ou com a homologação do plano de recuperação extrajudicial.</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14" name="PlaceHolder 2"/>
          <p:cNvSpPr>
            <a:spLocks noGrp="1"/>
          </p:cNvSpPr>
          <p:nvPr>
            <p:ph type="subTitle"/>
          </p:nvPr>
        </p:nvSpPr>
        <p:spPr>
          <a:xfrm>
            <a:off x="228600" y="1294920"/>
            <a:ext cx="8610480" cy="52578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Times New Roman"/>
              </a:rPr>
              <a:t>Assim, no CAPÍTULO VII, da lei em estudo, procurando coibir as costumeiras fraudes que notabilizaram o anacrônico sistema falimentar brasileiro, até então, um dos mais atrasados do mundo, fez com que o legislador se importasse em ampliar as sanções para aqueles que de forma ardil burlassem a lei.</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40" name="PlaceHolder 2"/>
          <p:cNvSpPr>
            <a:spLocks noGrp="1"/>
          </p:cNvSpPr>
          <p:nvPr>
            <p:ph type="subTitle"/>
          </p:nvPr>
        </p:nvSpPr>
        <p:spPr>
          <a:xfrm>
            <a:off x="228600" y="1981080"/>
            <a:ext cx="8610480" cy="4572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Times New Roman"/>
              </a:rPr>
              <a:t>Art. 183. Compete ao juiz criminal da jurisdição onde tenha sido decretada a falência, concedida a recuperação judicial ou homologado o plano de recuperação extrajudicial, conhecer da ação penal pelos crimes previstos nesta lei.</a:t>
            </a:r>
            <a:endParaRPr b="0" lang="en-US" sz="2800" spc="-1" strike="noStrike">
              <a:solidFill>
                <a:srgbClr val="ffffff"/>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42" name="PlaceHolder 2"/>
          <p:cNvSpPr>
            <a:spLocks noGrp="1"/>
          </p:cNvSpPr>
          <p:nvPr>
            <p:ph type="subTitle"/>
          </p:nvPr>
        </p:nvSpPr>
        <p:spPr>
          <a:xfrm>
            <a:off x="228600" y="685800"/>
            <a:ext cx="8610480" cy="5867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Times New Roman"/>
              </a:rPr>
              <a:t>Art. 184. Os crimes previstos nesta Lei são de ação penal pública incondicionada.</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Parágrafo único. Decorrido o prazo a que se refere o art. 187, § 1º, sem que o representante do Ministério Público ofereça denúncia, qualquer credor habilitado ou o administrador judicial poderá oferecer ação penal privada subsidiária da pública, observado o prazo decadencial de 6 (seis) meses.</a:t>
            </a:r>
            <a:endParaRPr b="0" lang="en-US" sz="2800" spc="-1" strike="noStrike">
              <a:solidFill>
                <a:srgbClr val="ffffff"/>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44" name="PlaceHolder 2"/>
          <p:cNvSpPr>
            <a:spLocks noGrp="1"/>
          </p:cNvSpPr>
          <p:nvPr>
            <p:ph type="subTitle"/>
          </p:nvPr>
        </p:nvSpPr>
        <p:spPr>
          <a:xfrm>
            <a:off x="228600" y="1828440"/>
            <a:ext cx="8610480" cy="47242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Times New Roman"/>
              </a:rPr>
              <a:t>Art. 185. Recebida a denúncia ou a queixa, observar-se-á o rito previsto nos arts. 531 a 540 do Decreto-Lei nº 3.689, de 3 de outubro de 1941 – Código de Processo Penal.</a:t>
            </a:r>
            <a:endParaRPr b="0" lang="en-US" sz="2800" spc="-1" strike="noStrike">
              <a:solidFill>
                <a:srgbClr val="ffffff"/>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46" name="PlaceHolder 2"/>
          <p:cNvSpPr>
            <a:spLocks noGrp="1"/>
          </p:cNvSpPr>
          <p:nvPr>
            <p:ph type="subTitle"/>
          </p:nvPr>
        </p:nvSpPr>
        <p:spPr>
          <a:xfrm>
            <a:off x="228600" y="380520"/>
            <a:ext cx="8610480" cy="6172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ffff"/>
                </a:solidFill>
                <a:latin typeface="Arial"/>
                <a:ea typeface="Times New Roman"/>
              </a:rPr>
              <a:t> </a:t>
            </a:r>
            <a:r>
              <a:rPr b="0" lang="pt-BR" sz="2500" spc="-1" strike="noStrike">
                <a:solidFill>
                  <a:srgbClr val="ffffff"/>
                </a:solidFill>
                <a:latin typeface="Arial"/>
                <a:ea typeface="Times New Roman"/>
              </a:rPr>
              <a:t>Art. 186. No relatório previsto na alínea e do inciso III do caput do art. 22 desta Lei, o administrador judicial apresentará ao juiz da falência exposição circunstanciada, considerando as causas da falência, o procedimento do devedor, antes e depois da sentença, e outras informações detalhadas a respeito da conduta do devedor e de outros responsáveis, se houver, por atos que possam constituir crime relacionado com a recuperação judicial ou com a falência, ou outro delito conexo a estes.</a:t>
            </a:r>
            <a:endParaRPr b="0" lang="en-US" sz="2500" spc="-1" strike="noStrike">
              <a:solidFill>
                <a:srgbClr val="ffffff"/>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ffff"/>
                </a:solidFill>
                <a:latin typeface="Arial"/>
                <a:ea typeface="Times New Roman"/>
              </a:rPr>
              <a:t> </a:t>
            </a:r>
            <a:endParaRPr b="0" lang="en-US" sz="2500" spc="-1" strike="noStrike">
              <a:solidFill>
                <a:srgbClr val="ffffff"/>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ffff"/>
                </a:solidFill>
                <a:latin typeface="Arial"/>
                <a:ea typeface="Times New Roman"/>
              </a:rPr>
              <a:t>Parágrafo único. A exposição circunstanciada será instruída com o laudo do contador encarregado do exame da escrituração do devedor.</a:t>
            </a:r>
            <a:endParaRPr b="0" lang="en-US" sz="2500" spc="-1" strike="noStrike">
              <a:solidFill>
                <a:srgbClr val="ffffff"/>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48" name="PlaceHolder 2"/>
          <p:cNvSpPr>
            <a:spLocks noGrp="1"/>
          </p:cNvSpPr>
          <p:nvPr>
            <p:ph type="subTitle"/>
          </p:nvPr>
        </p:nvSpPr>
        <p:spPr>
          <a:xfrm>
            <a:off x="228600" y="1294920"/>
            <a:ext cx="8610480" cy="52578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Times New Roman"/>
              </a:rPr>
              <a:t>Art. 187. Intimado da sentença que decreta a falência ou concede a recuperação judicial, o Ministério Público, verificando a ocorrência de qualquer crime previsto nesta Lei, promoverá imediatamente a competente ação penal ou, se entender necessário, requisitará a abertura de inquérito policial.</a:t>
            </a:r>
            <a:endParaRPr b="0" lang="en-US" sz="2800" spc="-1" strike="noStrike">
              <a:solidFill>
                <a:srgbClr val="ffffff"/>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50" name="PlaceHolder 2"/>
          <p:cNvSpPr>
            <a:spLocks noGrp="1"/>
          </p:cNvSpPr>
          <p:nvPr>
            <p:ph type="subTitle"/>
          </p:nvPr>
        </p:nvSpPr>
        <p:spPr>
          <a:xfrm>
            <a:off x="228600" y="380520"/>
            <a:ext cx="8610480" cy="6172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ffff"/>
                </a:solidFill>
                <a:latin typeface="Arial"/>
                <a:ea typeface="Times New Roman"/>
              </a:rPr>
              <a:t> </a:t>
            </a:r>
            <a:r>
              <a:rPr b="0" lang="pt-BR" sz="2500" spc="-1" strike="noStrike">
                <a:solidFill>
                  <a:srgbClr val="ffffff"/>
                </a:solidFill>
                <a:latin typeface="Arial"/>
                <a:ea typeface="Times New Roman"/>
              </a:rPr>
              <a:t>§ 1º O prazo para oferecimento da denúncia regula-se pelo art. 46 do Decreto-Lei nº 3.689, de 3 de outubro de 1941 – Código de Processo Penal, salvo se o Ministério Público, estando o réu solto ou afiançado, decidir aguardar a apresentação da exposição circunstanciada de que trata o art. 186 desta Lei, devendo, em seguida, oferecer denúncia em 15 (quinze) dias.</a:t>
            </a:r>
            <a:endParaRPr b="0" lang="en-US" sz="2500" spc="-1" strike="noStrike">
              <a:solidFill>
                <a:srgbClr val="ffffff"/>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ffff"/>
                </a:solidFill>
                <a:latin typeface="Arial"/>
                <a:ea typeface="Times New Roman"/>
              </a:rPr>
              <a:t>§ 2º Em qualquer fase processual, surgindo indícios da prática dos crimes previstos nesta Lei, o juiz da falência ou da recuperação judicial ou da recuperação extrajudicial cientificará o Ministério Público.</a:t>
            </a:r>
            <a:endParaRPr b="0" lang="en-US" sz="2500" spc="-1" strike="noStrike">
              <a:solidFill>
                <a:srgbClr val="ffffff"/>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252" name="PlaceHolder 2"/>
          <p:cNvSpPr>
            <a:spLocks noGrp="1"/>
          </p:cNvSpPr>
          <p:nvPr>
            <p:ph type="subTitle"/>
          </p:nvPr>
        </p:nvSpPr>
        <p:spPr>
          <a:xfrm>
            <a:off x="228600" y="2285640"/>
            <a:ext cx="8610480" cy="42670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 </a:t>
            </a:r>
            <a:r>
              <a:rPr b="0" lang="pt-BR" sz="2800" spc="-1" strike="noStrike">
                <a:solidFill>
                  <a:srgbClr val="ffffff"/>
                </a:solidFill>
                <a:latin typeface="Arial"/>
                <a:ea typeface="Times New Roman"/>
              </a:rPr>
              <a:t>Art. 188. Aplicam-se subsidiariamente as disposições do Código de Processo Penal, no que não forem incompatíveis com esta Lei.</a:t>
            </a: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16" name="PlaceHolder 2"/>
          <p:cNvSpPr>
            <a:spLocks noGrp="1"/>
          </p:cNvSpPr>
          <p:nvPr>
            <p:ph type="subTitle"/>
          </p:nvPr>
        </p:nvSpPr>
        <p:spPr>
          <a:xfrm>
            <a:off x="228600" y="1600200"/>
            <a:ext cx="8610480" cy="49528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7192b"/>
                </a:solidFill>
                <a:latin typeface="Arial"/>
                <a:ea typeface="Times New Roman"/>
              </a:rPr>
              <a:t> </a:t>
            </a:r>
            <a:r>
              <a:rPr b="0" lang="pt-BR" sz="2800" spc="-1" strike="noStrike">
                <a:solidFill>
                  <a:srgbClr val="ffffff"/>
                </a:solidFill>
                <a:latin typeface="Arial"/>
                <a:ea typeface="Arial"/>
              </a:rPr>
              <a:t>A nova legislação prevê várias formas de se evitar a bancarrota da empresa, inclusive arredando de sua direção profissionais incompetentes e inidôneos. Dá, ainda, maiores garantias aos créditos e mais poderes aos credores. Seu conteúdo interfere, portanto, na maior parte das relações comerciais. </a:t>
            </a:r>
            <a:endParaRPr b="0" lang="en-US" sz="28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ffffff"/>
              </a:solidFill>
              <a:latin typeface="Times New Roman"/>
              <a:ea typeface="Times New Roman"/>
            </a:endParaRPr>
          </a:p>
        </p:txBody>
      </p:sp>
      <p:sp>
        <p:nvSpPr>
          <p:cNvPr id="118" name="PlaceHolder 2"/>
          <p:cNvSpPr>
            <a:spLocks noGrp="1"/>
          </p:cNvSpPr>
          <p:nvPr>
            <p:ph type="subTitle"/>
          </p:nvPr>
        </p:nvSpPr>
        <p:spPr>
          <a:xfrm>
            <a:off x="228600" y="837720"/>
            <a:ext cx="8610480" cy="571500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cc66"/>
                </a:solidFill>
                <a:latin typeface="Arial"/>
                <a:ea typeface="Times New Roman"/>
              </a:rPr>
              <a:t>Dos Crimes em Espécie Fraude a Credores art. 168 a 172 </a:t>
            </a:r>
            <a:endParaRPr b="0" lang="en-US" sz="3000" spc="-1" strike="noStrike">
              <a:solidFill>
                <a:srgbClr val="ffffff"/>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Não temos na legislação pátria o conceito de crime falimentar, o que temos são crimes falimentares tipificados na lei de falências, os quais para fins didáticos serão conceituados como crimes falimentares.</a:t>
            </a:r>
            <a:r>
              <a:rPr b="0" lang="pt-BR"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0:53:32Z</dcterms:created>
  <dc:creator>Fernanda</dc:creator>
  <dc:description/>
  <dc:language>en-US</dc:language>
  <cp:lastModifiedBy>Fernanda</cp:lastModifiedBy>
  <dcterms:modified xsi:type="dcterms:W3CDTF">2005-10-30T00:56:42Z</dcterms:modified>
  <cp:revision>55</cp:revision>
  <dc:subject/>
  <dc:title>Disposições Penais na Lei de Recuperação de Empresas e de Falência (Lei  nº 11.101/2005)</dc:title>
</cp:coreProperties>
</file>